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785-DB13-4594-A13D-167BEE05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F9D-A0B8-4779-9D70-228BB37F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013-BDFC-43D9-B020-23BDE9F2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83C-AB9C-4D49-8E73-4ECDA07E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F953-B4CD-46C2-8F9D-AFEDC1D1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3CCC-D9C1-48D4-8C00-CE2E281B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3AF0-516A-4447-9F31-5320FB78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945B-7921-4C4F-8B0D-A297DAF1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53C60-165E-48C3-82CE-2EABE1CC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B817-73C2-4661-9F31-3CAF9350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E6C6-D3E4-4FE8-9EE4-60DAC41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AE9-42F4-4F68-848E-733F17EA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67BE-54BA-41E7-9C53-8D7C7FB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B27D-87CA-4D3F-A142-69145F6B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01E9-4DBD-4726-836D-014928A1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0B73-4EC9-422A-956B-92BB3BEE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D80F-6DAC-417C-85BF-7CD8FA83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CBF-6E86-48DE-B21D-C65FEA34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44F-08A9-43CC-A0F8-E9947FE9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554-F825-45A3-8C1B-B34CADAC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E77-6CEB-40F0-9530-6B68533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E55F-161A-4452-AF6F-2B165DF1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691-0BBA-4F4B-B060-CD322C60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A91-05CC-4DDC-A686-4F65A91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0527-3A05-4057-A337-FE3950F1FAF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D0F2-C546-4399-9A55-72EBA01C3DB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Supreme Court at Wor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2057400" y="1676520"/>
            <a:ext cx="4838760" cy="48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in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st decisions are accompanied by a written opinion explaining the justices’ decis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ypes of Opinion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ajor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urring-agree with majority but for different reas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nting-oppose the majorit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nanimous-all of the justices agre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6" descr="supreme court building"/>
          <p:cNvPicPr/>
          <p:nvPr/>
        </p:nvPicPr>
        <p:blipFill>
          <a:blip r:embed="rId1"/>
          <a:stretch/>
        </p:blipFill>
        <p:spPr>
          <a:xfrm>
            <a:off x="762120" y="4038480"/>
            <a:ext cx="7619760" cy="23558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upreme Court conducts business from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Octob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until the follow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June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known as the October Ter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S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Supreme Court can extend its session into July if there is a very significant case that needs to be hear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example of this was the Supreme Court case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U.S. v. Nix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6172200" y="1219320"/>
            <a:ext cx="28940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urt in Sess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 the first two weeks of each month the court is in sess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uring this time Justice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hear oral arguments in each ca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discuss and vote on ca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nounce what cases they    have decided to he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urt in Rec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uring the two weeks of recess the justices do most of their work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uring this time they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cide which cases to hea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esearch cas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opinions on cases from the previous sess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also use this time to read the briefs (written arguments) for upcoming cas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iding Which Cases to Hea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stices review a list of possible ca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t least 4 justices must vote for the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ccepted cases are placed on the docket (schedul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cases reach th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st appeals reach the court by a request for a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writ of certiorari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writ directs the lower court to send its records on a cas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4" descr="entrance%20to%20the%20court"/>
          <p:cNvPicPr/>
          <p:nvPr/>
        </p:nvPicPr>
        <p:blipFill>
          <a:blip r:embed="rId1"/>
          <a:stretch/>
        </p:blipFill>
        <p:spPr>
          <a:xfrm>
            <a:off x="3505320" y="4267080"/>
            <a:ext cx="16383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stices meet privately on Wednesdays and Fridays to discuss and vote on each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hief justice asks each associate justice to give his or her opinion in each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vote is tak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is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majority vote is requir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re is a tie vote the lower courts decision stand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42530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20:03:39Z</dcterms:created>
  <dc:creator>Sys Admin</dc:creator>
  <dc:description/>
  <dc:language>en-US</dc:language>
  <cp:lastModifiedBy>SysAdmin</cp:lastModifiedBy>
  <dcterms:modified xsi:type="dcterms:W3CDTF">2011-10-07T11:52:36Z</dcterms:modified>
  <cp:revision>26</cp:revision>
  <dc:subject/>
  <dc:title>The Court at Work</dc:title>
</cp:coreProperties>
</file>